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3655-0DB7-42F7-8293-C64E270CE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8C17-4EE3-4887-8AF7-3BF7ED44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DEA8-AC3A-48FF-9D88-F9C6C5D9C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DD69-BDC3-498E-8C65-DB2CA94FD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798B-19C3-4155-9BFB-407C71A6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4B15-57A6-4F52-BCB4-E93A9B54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D846-7616-453C-8F15-CA92318C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27A1-AD15-4262-8187-69AA2E33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F19B-3D43-4819-80CA-14E29084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04F1-E4F0-47FF-949C-0946B6EE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D95E-A3A1-43F9-9123-43B23D8E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53A1-FF0D-41A5-9A8B-62411A25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68A0-C89D-48E5-8350-E9C695AD87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spañol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alking about meal sched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drid—eating hou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sayuno- coffee, chocol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urro, roll with j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l almuerzo- (los onces)   11a.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melet, sausage, tomato, bread,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fish, squi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 comida- 2 p.m. main meal of the day, sies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apas-salad or sou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sh/meat, flan or dessert frui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fter dessert- coffee/wine with me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drid- eating hours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p.m./4p.m. back to busin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rienda-6p.m. mid day snac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okies, pastries, coffee (unless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pany is coming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nish work-7:30p.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ena-10p.m.-12p.m.  Light me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up, omelette, vegetables, fish,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ange/banan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ateo-tapas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comida principal del dí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typical Spanish breakfast consists of hot chocolate with churros (a special type of doughnut).  This, may be eaten in a churrería (a doughnut shop) or at ho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panish omelette is made up of potatoes and eggs not corn like the Mexican tortil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comida principal del día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muerzo=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ain meal of the day is large, normally 3 or 4 servings.  Soup, paella or fish is common for the first serving.  A meat is commonly served for the second serving.  Vegetables or salad comes after the meat.  A typical dessert is flan, (and egg custard) or fru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3:05:19Z</dcterms:created>
  <dc:creator>Maple Lake</dc:creator>
  <dc:description/>
  <dc:language>en-US</dc:language>
  <cp:lastModifiedBy> </cp:lastModifiedBy>
  <dcterms:modified xsi:type="dcterms:W3CDTF">2011-04-26T19:01:44Z</dcterms:modified>
  <cp:revision>175</cp:revision>
  <dc:subject/>
  <dc:title>Español  1</dc:title>
</cp:coreProperties>
</file>